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5569-29C5-4461-9B33-4366EAC1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30DD-08CC-4EF0-82F0-2E2FF04D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4D1-D6C3-4008-92CE-586667E3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AEF-5183-4912-AF7D-62552D65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5CCE-1436-452F-915A-0B02E8A9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C22-6733-4CE0-BD53-C2184A6C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559A-1E20-4A1D-ACB0-25516394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F2A0-9EB4-43B0-9581-83ECFCD0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F85-F104-40F1-9105-05A47F4D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A1B-19DA-4847-BF85-9F931E17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FAD4-A4B9-440F-BB64-811FC905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DFD-238E-41F0-9448-007DC72E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1785-6FD8-45D6-A48C-60BADC44E4D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upload.wikimedia.org/wikipedia/commons/9/98/Spot_welder.miller.triddle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24000" y="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LD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620640"/>
            <a:ext cx="91440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terogena o bras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satura (a resistenza elettrica, con saldatore ad induzione, in for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ldobrasatura (a fiamma ossiacetilenica, ad ar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tog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plo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ltrasu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ettrica a resistenza (a punti o cucitura con rul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ettrica ad arco (idrogeno atomico, plasma, atmosfera protettiv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d arco sommerso, ad arco protet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as (ossidrica, ossiacetilen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uminoterm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asellaDiTesto 2"/>
          <p:cNvSpPr/>
          <p:nvPr/>
        </p:nvSpPr>
        <p:spPr>
          <a:xfrm>
            <a:off x="330120" y="47628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aldatura ad ultrasuo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 15 a 40 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Saldatura di materiali termoplas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sellaDiTesto 3"/>
          <p:cNvSpPr/>
          <p:nvPr/>
        </p:nvSpPr>
        <p:spPr>
          <a:xfrm>
            <a:off x="325440" y="1844640"/>
            <a:ext cx="784872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aldatura alluminotermic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etto anche processo Goldschmidt) sfrutta il calore prodotto durante la reazione di ossidazione dell'alluminio metallico in presenza di ossido ferrico (Fe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 Al + Fe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→ Al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+ 2 Fe    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+ 851,5 KJ (+204 Kc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tilizzata per la saldatura autogena dei binari ferroviari sfruttando la reazione esotermica della termite. La reazione avviene miscelando tra loro alluminio metallico e ossido ferrico. La miscela così ottenuta (termite) viene posta all'interno di un crogiolo ed innescata mediante rapido riscaldamento, uno dei metodi utilizzabili è la combustione con magnesio metallico (M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9"/>
          <p:cNvSpPr/>
          <p:nvPr/>
        </p:nvSpPr>
        <p:spPr>
          <a:xfrm>
            <a:off x="324000" y="40464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aldatura a Ru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ene eseguita con lo stesso principio della saldatura a punti (a resistenza) e con la corrente che viene alimentata in modo discontinuo. E’ utile per lamiere piane sottili di lunghezza elev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084720" y="514440"/>
            <a:ext cx="2733840" cy="2087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1770120" y="4869000"/>
            <a:ext cx="5705280" cy="1209600"/>
          </a:xfrm>
          <a:prstGeom prst="rect">
            <a:avLst/>
          </a:prstGeom>
          <a:ln w="0">
            <a:noFill/>
          </a:ln>
        </p:spPr>
      </p:pic>
      <p:sp>
        <p:nvSpPr>
          <p:cNvPr id="65" name="Rettangolo 7"/>
          <p:cNvSpPr/>
          <p:nvPr/>
        </p:nvSpPr>
        <p:spPr>
          <a:xfrm>
            <a:off x="468360" y="2349360"/>
            <a:ext cx="783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aldatura di testa a resistenza p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impiegata per la saldatura di testa di pezzi cilindrici e tubi e si svolge secondo queste fasi ( vedi figura 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pezzi sono serrati su morsetti collegati al circuito elettrico della saldatrice accostando i pezz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ircuito elettrico si chiude e le zone dei pezzi prossime alle superfici di contatto si surriscaldano fino alla fusione per effetto Joule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questo punto i pezzi vengono compressi l'uno contro l'altro fino ad ottenerne la saldatur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9"/>
          <p:cNvSpPr/>
          <p:nvPr/>
        </p:nvSpPr>
        <p:spPr>
          <a:xfrm>
            <a:off x="324000" y="404640"/>
            <a:ext cx="777708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aldatura al 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plasma, spesso definito il quarto stato della materia, è un gas ionizzato; si ottiene riscaldando un gas a temperature molto alte; gli atomi del gas si scindono in ioni che sono dotati di cariche elettriche positive e negati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elettroni liberi in moto disordinato producono una enorme quantità di calore, che può essere sfruttata per la saldatura di tutti i materiali, tale saldatura è particolarmente adatta alla saldatura di acciai inossidabili, nichel, rame, ottone, alluminio e sue leghe, titanio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aldatura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frutta il medesimo sistema della saldatura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lasma sfruttando però l’energia del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luce coerente e monocromatica ad alta intensità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2071800" cy="2030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6156360" y="4869000"/>
            <a:ext cx="19400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6"/>
          <p:cNvPicPr/>
          <p:nvPr/>
        </p:nvPicPr>
        <p:blipFill>
          <a:blip r:embed="rId1"/>
          <a:stretch/>
        </p:blipFill>
        <p:spPr>
          <a:xfrm>
            <a:off x="1258920" y="4428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7"/>
          <p:cNvPicPr/>
          <p:nvPr/>
        </p:nvPicPr>
        <p:blipFill>
          <a:blip r:embed="rId1"/>
          <a:stretch/>
        </p:blipFill>
        <p:spPr>
          <a:xfrm>
            <a:off x="140328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18"/>
          <p:cNvPicPr/>
          <p:nvPr/>
        </p:nvPicPr>
        <p:blipFill>
          <a:blip r:embed="rId1"/>
          <a:stretch/>
        </p:blipFill>
        <p:spPr>
          <a:xfrm>
            <a:off x="1692360" y="0"/>
            <a:ext cx="536400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20"/>
          <p:cNvPicPr/>
          <p:nvPr/>
        </p:nvPicPr>
        <p:blipFill>
          <a:blip r:embed="rId1"/>
          <a:stretch/>
        </p:blipFill>
        <p:spPr>
          <a:xfrm>
            <a:off x="0" y="0"/>
            <a:ext cx="83170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50920" y="189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RAS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0" y="620640"/>
            <a:ext cx="4572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mpi tipici di brasat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satura di componenti elettrici ed elettronici in rame con stag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satura di tubazioni in rame con ott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satura degli inserti in metallo duro sugli utensili per le lavorazioni meccaniche per asportazione di trucio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http://www.spiega.com/pict/circuito_stampato.jpg"/>
          <p:cNvPicPr/>
          <p:nvPr/>
        </p:nvPicPr>
        <p:blipFill>
          <a:blip r:embed="rId1"/>
          <a:stretch/>
        </p:blipFill>
        <p:spPr>
          <a:xfrm>
            <a:off x="4932360" y="189000"/>
            <a:ext cx="3672000" cy="2868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http://www.italbras.it/download/BT/news/Lega%20brasante%20CuP%20big.JPG"/>
          <p:cNvPicPr/>
          <p:nvPr/>
        </p:nvPicPr>
        <p:blipFill>
          <a:blip r:embed="rId2"/>
          <a:stretch/>
        </p:blipFill>
        <p:spPr>
          <a:xfrm>
            <a:off x="324000" y="3213000"/>
            <a:ext cx="3771720" cy="2362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3"/>
          <a:stretch/>
        </p:blipFill>
        <p:spPr>
          <a:xfrm>
            <a:off x="395280" y="5877000"/>
            <a:ext cx="3552840" cy="828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http://thumbs4.ebaystatic.com/m/ml9vg-NQHJsIeBkNn3b2sLQ/140.jpg"/>
          <p:cNvPicPr/>
          <p:nvPr/>
        </p:nvPicPr>
        <p:blipFill>
          <a:blip r:embed="rId4"/>
          <a:stretch/>
        </p:blipFill>
        <p:spPr>
          <a:xfrm>
            <a:off x="4859280" y="3716280"/>
            <a:ext cx="40370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21"/>
          <p:cNvPicPr/>
          <p:nvPr/>
        </p:nvPicPr>
        <p:blipFill>
          <a:blip r:embed="rId1"/>
          <a:stretch/>
        </p:blipFill>
        <p:spPr>
          <a:xfrm>
            <a:off x="0" y="0"/>
            <a:ext cx="327348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3635280" y="486900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PARAZIONE DEI LEM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564000" y="404640"/>
            <a:ext cx="439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SALDATURA E’ CARATTERIZZATA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ipo di gi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ma della saldatura e del cor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mensioni del cor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cesso utilizz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2"/>
          <p:cNvPicPr/>
          <p:nvPr/>
        </p:nvPicPr>
        <p:blipFill>
          <a:blip r:embed="rId1"/>
          <a:stretch/>
        </p:blipFill>
        <p:spPr>
          <a:xfrm>
            <a:off x="0" y="27000"/>
            <a:ext cx="5181480" cy="6831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435640" y="3333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IPI DI GI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651640" y="1916280"/>
            <a:ext cx="2808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ma del cor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v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ca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26"/>
          <p:cNvPicPr/>
          <p:nvPr/>
        </p:nvPicPr>
        <p:blipFill>
          <a:blip r:embed="rId2"/>
          <a:stretch/>
        </p:blipFill>
        <p:spPr>
          <a:xfrm>
            <a:off x="5292720" y="3754440"/>
            <a:ext cx="36003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11280" y="404640"/>
            <a:ext cx="770580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rasatu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mpre con metallo d’apporto bassofondente rispetto agli elementi d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untare per salvaguardia dei pezzi o per saldature ripet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cessaria buona pulizia dei pezzi da giun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zzi non devono essere a contatto altrimenti non è possibile interporre i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tallo d’ap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mperature &lt; 45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ldobrasa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parazione del giunto tipica della saldatura autoge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ghe di apporto fondenti a temperature inferiori ai metalli del gi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ottoni fondenti a temperature relativamente elevate: per la saldobrasatura dell’acciaio tra 800÷950°C, per la ghisa tra 650÷800°C, per il rame e i bronzi tra 850÷950°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3"/>
          <p:cNvPicPr/>
          <p:nvPr/>
        </p:nvPicPr>
        <p:blipFill>
          <a:blip r:embed="rId1"/>
          <a:stretch/>
        </p:blipFill>
        <p:spPr>
          <a:xfrm>
            <a:off x="31680" y="333360"/>
            <a:ext cx="911232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4"/>
          <p:cNvPicPr/>
          <p:nvPr/>
        </p:nvPicPr>
        <p:blipFill>
          <a:blip r:embed="rId1"/>
          <a:stretch/>
        </p:blipFill>
        <p:spPr>
          <a:xfrm>
            <a:off x="0" y="260280"/>
            <a:ext cx="903924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7020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27"/>
          <p:cNvPicPr/>
          <p:nvPr/>
        </p:nvPicPr>
        <p:blipFill>
          <a:blip r:embed="rId1"/>
          <a:stretch/>
        </p:blipFill>
        <p:spPr>
          <a:xfrm>
            <a:off x="1476360" y="260280"/>
            <a:ext cx="56880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8"/>
          <p:cNvPicPr/>
          <p:nvPr/>
        </p:nvPicPr>
        <p:blipFill>
          <a:blip r:embed="rId1"/>
          <a:stretch/>
        </p:blipFill>
        <p:spPr>
          <a:xfrm>
            <a:off x="0" y="0"/>
            <a:ext cx="635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9"/>
          <p:cNvPicPr/>
          <p:nvPr/>
        </p:nvPicPr>
        <p:blipFill>
          <a:blip r:embed="rId1"/>
          <a:stretch/>
        </p:blipFill>
        <p:spPr>
          <a:xfrm>
            <a:off x="0" y="0"/>
            <a:ext cx="908856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30"/>
          <p:cNvPicPr/>
          <p:nvPr/>
        </p:nvPicPr>
        <p:blipFill>
          <a:blip r:embed="rId1"/>
          <a:stretch/>
        </p:blipFill>
        <p:spPr>
          <a:xfrm>
            <a:off x="0" y="0"/>
            <a:ext cx="651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32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184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619280" y="47628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COLL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33"/>
          <p:cNvPicPr/>
          <p:nvPr/>
        </p:nvPicPr>
        <p:blipFill>
          <a:blip r:embed="rId1"/>
          <a:stretch/>
        </p:blipFill>
        <p:spPr>
          <a:xfrm>
            <a:off x="826920" y="0"/>
            <a:ext cx="7452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8"/>
          <p:cNvSpPr/>
          <p:nvPr/>
        </p:nvSpPr>
        <p:spPr>
          <a:xfrm>
            <a:off x="0" y="1268280"/>
            <a:ext cx="255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M.A.G. (Metal Active Gas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altro ancora di uso corrente (gas argon, elio come inerti o anidride carbonica come attivo). La saldatura MIG e MAG è anche detta a filo continu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 le saldature ad arco in atmosfera protet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.M.A.W. (Gas Metal Arc Welding) che nella simbologia internazionale ha sostituito le precedenti M.I.G. (Metal Inert G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MIGMAG"/>
          <p:cNvPicPr/>
          <p:nvPr/>
        </p:nvPicPr>
        <p:blipFill>
          <a:blip r:embed="rId1"/>
          <a:stretch/>
        </p:blipFill>
        <p:spPr>
          <a:xfrm>
            <a:off x="2340000" y="1547640"/>
            <a:ext cx="6804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34"/>
          <p:cNvPicPr/>
          <p:nvPr/>
        </p:nvPicPr>
        <p:blipFill>
          <a:blip r:embed="rId1"/>
          <a:stretch/>
        </p:blipFill>
        <p:spPr>
          <a:xfrm>
            <a:off x="0" y="0"/>
            <a:ext cx="914400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35"/>
          <p:cNvPicPr/>
          <p:nvPr/>
        </p:nvPicPr>
        <p:blipFill>
          <a:blip r:embed="rId1"/>
          <a:stretch/>
        </p:blipFill>
        <p:spPr>
          <a:xfrm>
            <a:off x="1619280" y="189000"/>
            <a:ext cx="5889600" cy="4046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692360" y="450864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COLLAGGIO DI TU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253280" cy="5873760"/>
          </a:xfrm>
          <a:prstGeom prst="rect">
            <a:avLst/>
          </a:prstGeom>
          <a:ln w="0">
            <a:noFill/>
          </a:ln>
        </p:spPr>
      </p:pic>
      <p:sp>
        <p:nvSpPr>
          <p:cNvPr id="101" name="CasellaDiTesto 1"/>
          <p:cNvSpPr/>
          <p:nvPr/>
        </p:nvSpPr>
        <p:spPr>
          <a:xfrm>
            <a:off x="3059280" y="33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desivi per incollag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36"/>
          <p:cNvPicPr/>
          <p:nvPr/>
        </p:nvPicPr>
        <p:blipFill>
          <a:blip r:embed="rId1"/>
          <a:stretch/>
        </p:blipFill>
        <p:spPr>
          <a:xfrm>
            <a:off x="0" y="0"/>
            <a:ext cx="49068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292720" y="981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GGRAFF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0" y="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IG (Tungsten Inert Gas): viene utilizzato per saldare acciai comuni ma anche per acciai inossidabili, inconel, monel, rame e sue leghe. Elettrodo di tungsteno, gas di protezione elio, argo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mig2"/>
          <p:cNvPicPr/>
          <p:nvPr/>
        </p:nvPicPr>
        <p:blipFill>
          <a:blip r:embed="rId1"/>
          <a:stretch/>
        </p:blipFill>
        <p:spPr>
          <a:xfrm>
            <a:off x="5003640" y="4459320"/>
            <a:ext cx="4140360" cy="2398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tig2"/>
          <p:cNvPicPr/>
          <p:nvPr/>
        </p:nvPicPr>
        <p:blipFill>
          <a:blip r:embed="rId2"/>
          <a:stretch/>
        </p:blipFill>
        <p:spPr>
          <a:xfrm>
            <a:off x="0" y="1844640"/>
            <a:ext cx="5003640" cy="4294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5364000" y="2708280"/>
            <a:ext cx="3780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G-M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39640" y="404640"/>
            <a:ext cx="8064720" cy="62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AZIONI SALDATURA PER FUSIONE A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amma ossiacetile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+ 5/2 O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2CO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amma ossid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+ 1/2 O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ossigeno è fornito dall’ambiente ma soprattutto dalla bombola. La fiamma ossidrica sviluppa vapore acqueo. L’uso delle fiamme è p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ldatura (non industriale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ldobrasatu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aglio alla fiam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14r"/>
          <p:cNvPicPr/>
          <p:nvPr/>
        </p:nvPicPr>
        <p:blipFill>
          <a:blip r:embed="rId1"/>
          <a:stretch/>
        </p:blipFill>
        <p:spPr>
          <a:xfrm>
            <a:off x="0" y="0"/>
            <a:ext cx="9144000" cy="5616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468360" y="5516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ldatura ad arco elettrico (con elettrodo a perd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3635280" y="0"/>
            <a:ext cx="5508720" cy="60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TTRODO RIVESTITO (o a perde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metallo d’apporto all’interno dell’elettr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TTRODO DI TUNGST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tallo d’apporto a p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UNZIONI ELETTR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viluppare gas che proteggono da ossidazione e ionizzanti per condurre corrente elettrica e stabilizzare l’a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portare elementi che migliorano le caratteristiche del giunto ed abbassano leggermente la temperatura di fu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mazione di scoria fusa che protegge il gi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5r"/>
          <p:cNvPicPr/>
          <p:nvPr/>
        </p:nvPicPr>
        <p:blipFill>
          <a:blip r:embed="rId1"/>
          <a:stretch/>
        </p:blipFill>
        <p:spPr>
          <a:xfrm>
            <a:off x="0" y="0"/>
            <a:ext cx="363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9"/>
          <p:cNvPicPr/>
          <p:nvPr/>
        </p:nvPicPr>
        <p:blipFill>
          <a:blip r:embed="rId1"/>
          <a:stretch/>
        </p:blipFill>
        <p:spPr>
          <a:xfrm>
            <a:off x="0" y="765000"/>
            <a:ext cx="5248440" cy="5301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651640" y="981000"/>
            <a:ext cx="28080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aldatura a punti (Carrozzerie auto, lamiere di elettrodomestici, contenitori metallici cilindri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File:Spot welder.miller.tridd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3414600"/>
            <a:ext cx="282240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3:16:43Z</dcterms:created>
  <dc:creator>PELLEGRINO</dc:creator>
  <dc:description/>
  <dc:language>en-US</dc:language>
  <cp:lastModifiedBy>240</cp:lastModifiedBy>
  <dcterms:modified xsi:type="dcterms:W3CDTF">2013-05-13T16:05:14Z</dcterms:modified>
  <cp:revision>16</cp:revision>
  <dc:subject/>
  <dc:title>Diapositiva 1</dc:title>
</cp:coreProperties>
</file>